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DF5-4F39-4119-BDDE-A4FA4806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B87-AF77-47AA-99D7-1AEE2D33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7C9-EA9F-4919-B980-642B2C6F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AD4-6E21-476F-B100-5EBD371B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ED5-ABF8-44EE-A1D3-CB2CD2BE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6A61-5A71-4AB7-B529-B3B3CC6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0E55-F0A0-4A12-B86F-22D7CBCE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747F-1FBD-475B-B371-C10F960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3BD1-EFEB-4CCF-AFD0-323D8614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EC5A-0C85-42A6-A270-7135782D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5D6B-32A7-4ACC-AF9D-AA15B12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520-BA67-4482-826D-CD51D371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83D-55EA-4050-BC7F-58A0DE9D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10D8-3DC0-41AA-947E-752E343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A670-F1F2-4AC2-8354-A27D27F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13A-ABFF-4044-918B-C843E3F0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E0F8-A3C7-4A53-BC6E-6C2D8FF1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578-8C4E-4E6A-A851-9BF1BDB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FB7-34B2-462E-AD7C-A48AB2F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449-4219-469C-B8E9-4FD71AAA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EEB-44A0-43C7-9C29-0255E00D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DEF-BB4D-48E7-806C-DBF966B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59D-3DCB-4452-B7E1-76FC5FC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892-A801-4C0B-9ECB-13E4A7A5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877-E037-41B5-BE21-4E3E2F4E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541F-48CE-4203-86D0-248AF93C7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393336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6d18"/>
                </a:solidFill>
                <a:latin typeface="Eskiz CY"/>
              </a:rPr>
              <a:t>Восток Москвы сквозь даль столетий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Работа учащейся 9 класса «Б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Московской международной гимназ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Калмыковой Дарь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61636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Eskiz CY"/>
              </a:rPr>
              <a:t>«Кусково! Милый уголок</a:t>
            </a: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…</a:t>
            </a:r>
            <a:r>
              <a:rPr b="1" lang="ru-RU" sz="2400" spc="-1" strike="noStrike">
                <a:solidFill>
                  <a:srgbClr val="a26d18"/>
                </a:solidFill>
                <a:latin typeface="Eskiz CY"/>
              </a:rPr>
              <a:t>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103640" cy="2879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5076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Кусково, расположенное всего в семи верстах от Москвы, становится привлекательным местом для увеселений при Борисе Петровиче Шереметеве (1652-1719).В пору своего расцвета 70-ые годы ХVIIIв. Кусково ничем не отличалось, а в чем-то даже превосходило императорские поместья.Кусковский дворец строился для летних забав.В центре парка стоит мраморная колонна с изваянием богини мудрости  Минервы с чертами лица императрицы Екатерины II.Кусково прославилось своим театром и труппой крепостных актеров. Крепостная актриса Прасковья Ивановна Ковалева-Жемчугова  получит вольную и выйдет замуж за Николая Петровича Шереметева.Их сын прославится меценатством. А его сын, Сергей Дмитриевич Шереметев(1844-1918), жил в Кускове вплоть до революции. Перед смертью он говорил, что проклянет тех из своих детей, кто покинет Россию и уедет за границу. Должно перестрадать вместе со своей страной все беды и несчастья, которые постигли е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92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181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Кусковский Г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64911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6d18"/>
                </a:solidFill>
                <a:latin typeface="Eskiz CY"/>
              </a:rPr>
              <a:t> </a:t>
            </a: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следние страницы дворянско-усадебного быт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03280" y="1052280"/>
            <a:ext cx="5940360" cy="62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а огромной территории бывшего Васильцова стана рядом  с роскошными вотчинами ХVII в. соседствовали небольшие дворянские усадьбы. Одна из таких располагалась в старинном селе Гиреево. Сегодня Гиреево ассоциируется с жилым микрорайоном Новогиреево. Гиреево оставалось небольшой помещичьей усадьбой, пожалованной за верную службу Голицыным. В середине ХVIII века имение принадлежало коммерции советнику Александру  Торлецкому. Напоминанием о Торлецких является Терлецкие пруды и Терлецкая дубрава.      Ю.А.Бахрушин прожил  в Гиреево на даче последние 20 предреволюционных лет. В старинном барском доме были полы с  мозаичным паркетом,большие картины и портреты в тяжелых золотых рамах. Здесь часто давались праздничные фейерверки. Зрелище было достойно восхищ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а рубеже ХIХ и ХХ  веков под Москвой насчитывалось свыше 100 поселков, в которых проводили лето до 40 тысяч человек. Такие поселки были в Перове, Вешняках, Кускове, Сокольни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9779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д   сенью   храмов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252720" y="3141360"/>
            <a:ext cx="939636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Eskiz CY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о второй половине ХVIIв. Москва представала перед иностранцами во всем блеске своих дворцов, храмов и монастырей. Именно храмы придавали столице Руси тот неповторимый облик, который отмечали все путешественники, дипломаты и члены иноземных посольств. Сегодня дошедшие до нас от веков храмы стали явлением истории и культуры. именно такими памятниками богат наш Восточный округ. Среди сохранившихся до сих пор шедевров- удивительный храм в вотчине бояр Шереметевых в Вешняках. Разрешение на его строительство было дано в 1644г.,а образцом для сооружения храма в Вешняках послужил знаменитый «Храм Соломона» в Иерусалиме. Но храм вызвал неожиданную критику со стороны патриарха Никона. Он потребовал  заменить островерхие шатровые главы на круглые, более приличествующие церковной тради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Усадебный храм в Кускове во имя Всемилостивого Спаса был отстроен и освещен в 1737г.при графе Шереметеве. На скатах крыши, согласно  «европейской» традиции, установлены скульптурные фигурки ангелов с крестами в воздетых ру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2087640" cy="247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356000" y="476280"/>
            <a:ext cx="376560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256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рам в Вешня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2924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рам Всемилостивого Спаса в Кус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д   сенью   храмов</a:t>
            </a:r>
            <a:r>
              <a:rPr b="1" lang="en-US" sz="1800" spc="-1" strike="noStrike">
                <a:solidFill>
                  <a:srgbClr val="a26d18"/>
                </a:solidFill>
                <a:latin typeface="Eskiz CY"/>
              </a:rPr>
              <a:t> 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217960" cy="2549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В Черкизове расположен еще один древнейший храм. В Смутное время на берегу пруда стояла небольшая деревянная Ильинская церковь. А в 1690 году на месте ее встала каменная церковь Илии Пророка. Ни на один день храм не прекращал службу в дни Великой  Отечественной вой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До наших дней дожил еще один впечатляющий образец московской храмовой архитектуры- храм Покрова Пресвятой Богородицы в Измайлове (начат в 1671г). Образцом для него послужил Успенский собор в Кремле. Высокие толстые стены, мощно вознесенная центральная глава-все настраивало на торжественный и созерцательный ла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2952720" cy="1873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2924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Церковь Ильи Пророка в Черкиз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33577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Храм Покрова в Измай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д   сенью   храмов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В Измайлове  до наших дней сохранилась и другая церковь – сельский храм во имя Рождества Христова. Свезенные из разных мест в усадьбу при царе Алексее Михайловиче крестьяне поселялись севернее царского дворца, образовав Новую слободу. Без храма жить негож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В начале ХVII в. В  Перове и Гирееве строятся каменные церкви на деньги вельмож – владельцев усадьб. Они выполнены в стиле барокко, входившего тогда в моду. Знаменский храм в Перове построил Петр Алексеевич Голицын, один из сподвижников Петра, в 1708 г. По преданию, здесь через 40 лет венчались императрица Елизавета и граф Разумовск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508720" y="69228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2852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Храм Рождества Христова в Измай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9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Храм иконы Знамения в Пе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д   сенью   храмов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1371240"/>
            <a:ext cx="4043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С именем Голицыных связано возведение еще одной церкви- усадебного храма в Гирееве. Каменная церковь Спаса Нерукотворного (1718г)  по стилю близка  храму Знамения. В настоящее время эта церковь находится на территории  городской больницы № 70, и здесь работает Спасо – Перовский Госпиталь мира и милосе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841480" cy="3505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71600" y="51814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Церковь Спаса Нерукотворного в Новогире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4572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д сенью храмов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932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Почти у Старой Владимирской дороги в селе Ивановском на рубеже ХVIII-ХIХ в. возникла церковь Рождества Иоанна Предтечи. Каменный храм построен в стиле классицизма. Некогда достопримечательностью церкви и  окружающего места был святой колодец. Сюда верующие приходят за святой вод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В Косине в Х</a:t>
            </a:r>
            <a:r>
              <a:rPr b="1" lang="en-US" sz="2000" spc="-1" strike="noStrike">
                <a:solidFill>
                  <a:srgbClr val="000000"/>
                </a:solidFill>
                <a:latin typeface="Eskiz CY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II в.cтояла деревянная церковь во имя чудотворца Николая. После войны 1812г.,когда село и храм были разграблены, и в нем строится каменная церковь Успения</a:t>
            </a:r>
            <a:r>
              <a:rPr b="0" lang="ru-RU" sz="2800" spc="-1" strike="noStrike">
                <a:solidFill>
                  <a:srgbClr val="000000"/>
                </a:solidFill>
                <a:latin typeface="Eskiz CY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Eskiz C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232000" cy="2837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376360" cy="2232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03640" y="9079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Церковь Рождества Иоанна Предтечи в Иванов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877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Церковь Успения в Кос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д   сенью   храмов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Церковь в Богородском во имя Преображения  Господня появилась в 1880г.  В период религиозных гонений 20-30-ых годов церковь не была закрыта. Сегодня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- это один из немногих сохранившихся памятников деревянного церковного зодчества в Моск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 Сокольниках длительное время не строили храма – Возможно, потому, что это был, в первую очередь, парк. Но в 1909 году на площади Сокольнической заставы возвели храм Воскресения Христова . Это образец церковной постройки эпохи модерна. Необыкновенная шатровая крыша  с золотой маковкой придает храму устремленность ввысь, а узкие щелевидные окна ассоциируются со свечами и придают храму особенную напевность и строй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2576520" cy="251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3024360" cy="2377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600" y="3276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Церковь Преображения в Богород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3276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Храм Воскресения Христова в Соколь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Старообрядцы в Преображенском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00000" y="620640"/>
            <a:ext cx="6211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 конца ХVIII в. Преображенское стало центром старообрядчества. В результате церковной реформы, проведенной патриархом Никоном, в русской православной церкви произошел раскол. Не принявшие «новин» стали именоваться староверами или старообрядцами. Каноническая православная церковь и государство преследовали раскольников. Особый расцвет старообрядческое  Преображенское получило в начале ХIХ в., когда доходы  общины значительно возросли. Старообрядчеству были привержены многие купеческие фамилии: Гучковы, Носовы, Морозовы, Рябушинск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егодня в Преображенском находится исторический некрополь, оказавшийся почти в центре столицы. Здесь захоронены целыми семьями с потомками купцы, промышленники – староверы и многие известные деятели прошл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737080" cy="218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35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ерковь в Преображен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Государевы заводы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5651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ервые крупные предприятия на территории нынешнего Восточного округа возникли во второй половине ХVII в. И созданы были самими государями –Алексеем Михайловичем и Петром I. Появление их напрямую было связано с потребностями государства. Двор царя и его измайловское хозяйство ощущали большую потребность в стеклянной посуде. Так появился «стеклянный» завод в Измайло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ри Петре он продолжал успешно работать, здесь были мастера высокой квалификации. Многие приезжали перенимать опыт работы измайловского стекольного предприятия. Строившийся парусный флот требовал огромного количества парусины и канатов. И таким казенным предприятием стал Хамовный двор в Преображенском. Предприятий такого рода на Руси еще не было. Кроме парусины, здесь ткали  ткани для флагов, скатерти, салфетки и даже изготавливали кана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224080" cy="280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72200" y="4572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кацкий ст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Eskiz CY"/>
              </a:rPr>
              <a:t>Содержание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. Помнить, беречь и гордить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2. Находки уводят в каменный 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. На землях Васильцова ст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4. «Увеселительный» дворец царя Алексея Михайлови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5. Любимое Петром Преображен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6. Время  Елизаветы Петров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7. «Охотные забавы»  русских цариц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ремя Анны Иоаннов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8. «Кусково! Милый уголок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9. Последние страницы дворянско-усадебного б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0. Под   сенью   храм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1. Старообрядцы в Преображенс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2. Государевы зав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3.«Гиганты» и «карлики» 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4. Фабричное 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5. Восток  индустриа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6. «Вставай, страна огромная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7. Раздвигая  границы  Моск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8. Карта Восточного окру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19. Заклю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075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«Гиганты» и «карлики» производств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35280" y="620280"/>
            <a:ext cx="550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 селе Богородском в 1705 г. Была основана казенная бумажная мануфактура. Это было большое предприятие. Предприятие работало настолько хорошо, что Петр, оценив высокое  качество бумаги, позволил ставить  купеческую филигрань и использовать государственную символику – всадника, поражающего зм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 петровских времен  промышленное развитие восточного Подмосковья шло более интенсивно, чем западного. На берега многочисленных речек и прудов как магнитом притягивались производства, нуждающиеся в воде. Здесь имелось и дешевое дровяное топливо, ибо вокруг стояли густые ле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сплеск промышленного освоения востока Подмосковья приходится на 60-70 – ые  годы ХIХ века.Здесь появятся бумаготкацкая и отбельная  фабрика М.Д. Пфейфера (позже Семеновская мануфактура), Богородские красильные заведения, Измайловская мануфактура,  шелкоткацкая  ленточная ручная фабрика купца С.П. Сабиона (позже фабрика «Красная заря»), мыловаренные мастерские (позже завод «Синтетических моющих средств»).</a:t>
            </a:r>
            <a:r>
              <a:rPr b="1" lang="ru-RU" sz="1600" spc="-1" strike="noStrike">
                <a:solidFill>
                  <a:srgbClr val="000000"/>
                </a:solidFill>
                <a:latin typeface="Eskiz CY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4920" y="5257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вое производство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Фабричное производство</a:t>
            </a:r>
            <a:r>
              <a:rPr b="1" lang="en-US" sz="4000" spc="-1" strike="noStrike">
                <a:solidFill>
                  <a:srgbClr val="a26d18"/>
                </a:solidFill>
                <a:latin typeface="Eskiz CY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а востоке Подмосковья выпускали паровые и водогрейные котлы, баки, бочки, дымовые трубы. Главной достопримечательностью была огромная фабрика «Московского товарищества резиновых изделий». В Черкизове работали бумагоотбельная, шелкокрасильная и ситценабивная фабрики.  В Гольянове сразу три фабрики ткали одеяла. Нарасхват шла продукция  единственного в своем роде предприятия – свечного и воскобелильного зав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ромышленность подчиняла себе и дальние окраины – в Щитникове работала картонноклеильная фабрика, а в Косине – ленточная. В Кускове обосновался нефтеперегонный завод Русско - американского нефтяного товарищ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а рубеже ХIХ и ХХв.это территориальное пространство Москвы как в зеркале отражало все непримиримые противоречия огромной России. Первые забастовки на Измайловской бумагопрядильной мануфактуре прошли в 1879г. и в начале 188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495680" cy="2152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356000" y="227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майловская мануфа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8867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Восток  индустриальный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181440" y="2349000"/>
            <a:ext cx="93250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В 1928 году страна вступила в первую пятилетку. Была поставлена цель – в корне изменить характер промышленности в столице, превратить «ситцевую» Москву в машиностроительную, электрическую и химическую.  На восточной окраине в период первой пятилетки строились крупные предприятия тяжелой индустрии. Некоторые отрасли промышленности развивались впервые. Детищем первой пятилетки стал знаменитый Электрозавод.В начале 30-ых годов «Компрессор» был единственным в стране предприятием холодильного оборудования. В апреле 1931г. Был открыт вечерний ВТУЗ (филиал МВТУ им.Баумана).На месте котельных мастерских  за Семеновской заставой вырос крупный электромоторный завод (позже – «Маяк»). На Большой Семеновской развернулось строительство цехов первого инструментального завода страны. Здесь  были рабочие разных национальностей: русские, венгры, немцы, литовцы, итальянцы. Многие крупные предприятия вырастали в это время на базе  существовавших с ХIХ в.мелких фабрик и мануфактур.Стал меняться облик рабочей окраины, появились первые жилищные новостройки. На восточные «задворки» пришли, наконец, канализация и водопровод, замощенные улицы электрическое освещ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2901960" cy="1773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867280" y="1700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Электроламповый за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«Вставай, страна огромная…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76720" y="692280"/>
            <a:ext cx="5867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Мирная жизнь в одночасье, 22 июня 1941 года, была прервана на долгих, тяжелейших 1418 д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В районах, вошедших в Восточный округ, на всех предприятиях быстро и оперативно – от трех-четырех недель и до двух месяцев – перешли на выпуск оборонной продукции. В первые дни войны более 500 тысяч трудящихся Москвы ушли на фронт по мобилизации и добровольцами, вступили в дивизии народного ополчения, истребительные батальоны и в партизанские отряды. Около 400 тысяч из них составляли коммунисты и комсомольцы – в основном самые квалифицированные работники. Их заменили женщины и подростки. Более 70 тысяч выпускников ремесленных училищ и школ фабрично-заводского обучения были направлены на московские предприя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763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«Вставай, страна огромная…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496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«Московский электроламповый завод перевыполнил программу выпуска электроламп. Места рабочих, ушедших на фронт, заняли женщины. Коллектив завода дал слово выпускать столько электроламп, сколько их понадобится.»(«Правда, 1941, 25 июня»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Люди не щадили себя. Помогали фронту не только выпуском боевой техники. Женщины шили у себя дома белье для бойцов, отдавали на фронт посылки. Люди искусства поддерживали советских людей духовно. Они посвящали военной тематике свои произведения: литературные произведения, картины, скульптуры и, конечно, агитационные плака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926400" y="333360"/>
            <a:ext cx="2217600" cy="3024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20066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«Вставай, страна огромная…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64000" y="1125360"/>
            <a:ext cx="5122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обеду в страшной войне 1941-1945 гг. обеспечивали все и каждый: те, кто выпускали «Катюши», создавали знаменитые «грабинские» пушки, пробивающие броню толстобронных немецких «Тигров» и «Фердинандов», и главные боевые бронированные машины времен войны – танк Т-34, и те, кто одевали бойцов и офицеров в шинели, согревали их шерстяными портянками, носками и варежками и укрывали теплыми суконными платками женщин, работающих на трудовом фронте и в дождь и стуж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240360" cy="2195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182400">
            <a:off x="395280" y="4220640"/>
            <a:ext cx="333216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Eskiz CY"/>
              </a:rPr>
              <a:t>  </a:t>
            </a: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Раздвигая  границы  Москвы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Еще в ХIХв. любой приезжий в Москву мог попасть через одну из 16 застав по окраинам города. В их числе на востоке-Преображенская, Семеновская, Сокольническая и др. Сейчас об этом напоминают валы: Олений, Преображенский, Измайловский, Богородский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озникают железнодорожные станции: Ухтомская, Кусково, Перово, Вешняки, Косино и др. Железная дорога все шире распространяет промышл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 связи со строительством Московской кольцевой  автодороги в 1960г. в границы города входит ряд населенных пунктов восточного Подмосковь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ерово, Вешняки, Ивановское, Гольяново, Новогиреево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а территории Восточного округа располагались 4 бывших крупных района города: Куйбышевский, Перовский, Первомайский и частично – Сокольническ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ыне округ делится на 16 районов: Богородское, Вешняки, Восточное Измайлово, Гольяново, Ивановское, Измайлово, Косино-Ухтомский, Метрогородок, Новогиреево, Новокосино, Перово, Восточный, Преображенское, Северное Измайлово, Соколиная гора, Сок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Карта Восточного округ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91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Заканчивая путешествие по Восточному административному округу столицы, мы в полной мере ощутили, как величественна наша история, как богат на дела и события наш округ.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Помнить, беречь и гордиться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осточный административный округ Москвы - это округ, в котором я родилась, живу и учусь. Моя  «малая  родина»- это самый крупный по территории округ в нашей столице (154,6 кв.км) и второй  по численности населения (1млн.389,8 тысяч  жител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 его границах сошлись века и эпохи, здесь происходили важнейшие культурно-исторические события, повлиявшие на становление нашего государства, Здесь воочию можно увидеть движение Исто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Колыбель петровских реформ, где рождались российская армия и флот, - 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Преображенск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Изысканный садово-парковый ансамбль-музей-усадьба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«Кусково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амятник уходящего дворянско-усадебного быта конца Х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Х века- село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Гиреево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, которое сегодня ассоциируется с жилым микрорайоном 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Новогирее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кромные села -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Перово, Тетерки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– связаны с именем русской императрицы Елизаветы Петровны, дочери Петра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осточный округ – хранитель не только Истории, но и ценнейших богатств природы- национального природного парка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«Лосиный остров»,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лесопарка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Измайлово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, уютных и вечно юных </a:t>
            </a:r>
            <a:r>
              <a:rPr b="1" lang="ru-RU" sz="2000" spc="-1" strike="noStrike">
                <a:solidFill>
                  <a:srgbClr val="000000"/>
                </a:solidFill>
                <a:latin typeface="Eskiz CY"/>
              </a:rPr>
              <a:t>Сокольников.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Находки уводят в каменный век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осточный округ- это  «зеленые легкие»  многомиллионного го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мена эпох не отменяет извечные человеческие ценности. Но прежде чем познакомиться с ними, зададим себе вопрос: «Что может поведать археология о заселении наших мест задолго до того, как возникла сама Москва и Московское княжество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читают, что восточная часть Московской земли была заселена уже в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тысячелетии до нашей эры, когда первобытные охотники в шкурах, с каменными топорами, кочевавшие по лесам, питавшиеся кореньями, дикими  злаками, ягодами и охотничьей добычей, стали переходить от охоты к скотоводству и земледелию и от кочевого образа жизни к относительной оседлости. Может быть, с того времени и пролежали в районе Перова, на берегу речки Нищенки, найденные в 1940 год кремневые осколки и один большой камень, от которого откалывали отщепы (пластины) для изготовления орудий труда. В конце Х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Х века в районе села Косино были найдены браслеты, кольца, серьги, бубенчики и даже железный наконечник стрелы. По обнаруженным находкам археологи установили, что на этой земле сосуществовали рядом вятичи и кривичи, а союз племен не был редкостью, возможно, существовали  и смешанные бра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На землях Васильцова стан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4000" y="1196640"/>
            <a:ext cx="518616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Нынешний Восточный административный округ вобрал в себя Васильцов стан и небольщую часть Почернева стана (по речке Черно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Упоминания об этих землях можно встретить в писцовых книгах 1573 года.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Эта земля была средоточием царских охотничьих угодий. Среди владельцев этих земель были  такие представители знатных боярских родов и родственники  царей, как  Юрьевы, Шереметевы, Голицыны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«Увеселительный» дворец царя Алексея Михайлович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ри царе Алексее Михайловиче (1629-1676) началось обустройство царских загородных усаде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Самой любимой усадьбой царя стало Преображенское. Оно в памяти царя осталось навсегда связано с большой радостью- рождением второго сына царевича Федора (1661-1682).  В Преображенское царское семейство перебралось в конце мая 1661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ри Алексее Михайловиче здесь по европейскому образцу разводили цветы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Весной цвели гиацинты, тюльпаны, нарциссы, высаженные перед дворцом и в саду. Самым любимым развлечением царя была соколиная охота.В селе Семеновском был построен Соколиный двор. Число соколов и кречетов доходило до 3000.Для птиц шили специальные наряды: «на головы- клобучки  бархатные, низанные жемчугом, шитые золотом и серебром». К хвосту привязывали серебряные колокольца. На лапы лучшим соколам надевали золотые кольца с драгоценными камнями. Птицами тешили послов и дипломатов, птиц дарили государям иных зем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Eskiz CY"/>
              </a:rPr>
              <a:t>Любимое Петром Преображенское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skiz CY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етр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(1672-1725) был привезен в Преображенское впервые полутора лет от роду. Но после смерти царя Алексея Михайловича и царевича Федора  в 1682 году усадьба  в Преображенском стала местом постоянного пребывания, а вернее, ссылки для царицы и ее детей на 7 ле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Петр рос на просторах Преображенского. Никем не руководимый, он начал здесь продолжительную игру, которая стала для него школой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Eskiz CY"/>
              </a:rPr>
              <a:t>Он создал первые потешные полки - прообраз регулярной русской армии. Здесь, в Преображенском, Петр увлекся плаванием, найдя в старом амбаре остов большого шлюпа.  Этот ботик  из измайловского амбара Петр назовет потом «дедушкой  русского флота». Здесь было принято боярской думой решение: «Флоту в России быть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816360" cy="208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05720" y="2286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тик П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Время  Елизаветы Петровны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5508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skiz CY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Елизавета Петровна вступила на престол  в 1741 году. Через год в глубокой тайне она венчалась в Перове с графом Разумовским (1709-1771).Приглянувшегося ей  красавца, сына простого казака с Украины и певчего придворного хора, Елизавета приблизила к себе, произвела в графы, пожаловала орденом Святого Андрея Первозванного и назвала своим мужем. Предполагаемым местом этого события считают сельскую церковь села Перово. При  перестройке над крестами обычной русской церкви засверкала золоченая корона.Осенью и зимой  1742 года Елизавета особенно часто охотилась в Измайлове и Перове. На охоту приглашались иностранные министры и русская знать. По проекту Растрелли в селе Перово был построен охотничий  дворец. Перовские рощи оглашались музыкой, дворец среди ночи сиял огнями. Позже дворец  в Киеве был построен по макету перовского  дворца. После охоты в Перово вся  процессия (иногда около 5000 человек)отправлялась в Кусково на фейерверк. В конце декабря 1761 года со смертью Елизаветы Петровны закрылась еще одна страница повести о великолепии былых врем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376720" cy="2619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57800" y="426708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рам иконы Знамения в Пе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«Охотные забавы»  русских цариц</a:t>
            </a:r>
            <a:br>
              <a:rPr sz="2400"/>
            </a:br>
            <a:r>
              <a:rPr b="1" lang="en-US" sz="2400" spc="-1" strike="noStrike">
                <a:solidFill>
                  <a:srgbClr val="a26d18"/>
                </a:solidFill>
                <a:latin typeface="Eskiz CY"/>
              </a:rPr>
              <a:t>Время Анны Иоанновны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125360"/>
            <a:ext cx="8148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skiz CY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С Измайловым и Перовом связаны имена двух русских императриц – дочери Ивана V, племянницы Петра I - Анны Иоанновны (1693-1740) и дочери Петра  – Елизаветы (1709-1761). Анна Иоанновна  провела детские и юношеские годы в Измайловской церковной вотчине. Здесь она организовала новый гвардейский полк -Измайловский, ставший в один строй с полками старой нетронутой гвардии -  Преображенским и Семеновским. Если ее пребывание в Измайлове было длительным, то она занималась и государственными делами. В память об этом  Сенатская башня, где собирался  высший орган управления страной –Сенат. Измайлово было местом ее любимой охоты. По ее приказу здесь был устроен зверинец с множеством животных разных пород. Можно было увидеть гуляющих лосей, оленей, зубров, антилоп, обезьян, китайских коров, сайгаков и фаз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Eskiz CY"/>
              </a:rPr>
              <a:t>Анна Иоанновна приезжала сюда на охоту вместе с первым министром Бироном(1690-1772).Зимой она каталась на коньках по льду замерзших прудов, а летом водила хороводы с придворными девуш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8:01:55Z</dcterms:created>
  <dc:creator>IGOR</dc:creator>
  <dc:description/>
  <dc:language>en-US</dc:language>
  <cp:lastModifiedBy>Департамент образования</cp:lastModifiedBy>
  <dcterms:modified xsi:type="dcterms:W3CDTF">1970-01-02T04:07:01Z</dcterms:modified>
  <cp:revision>26</cp:revision>
  <dc:subject/>
  <dc:title>Слайд 1</dc:title>
</cp:coreProperties>
</file>